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785-41B7-4B0E-A11E-FA076503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C1D-2A55-4406-9671-7BD38F8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A6C-6102-4FC6-ADDA-75FBF91A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A5E-5189-42BF-A5BB-C0779BF3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CB5-ED33-4624-BEDC-9E1B6F8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D81-CA60-4AC0-8AFA-28DB30E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332-20C6-4A0C-9B2B-A3F9C7E1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325-1BF5-4F85-A1AB-3BC1584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3A3-DD9C-4E5A-A36A-1C90BE4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06A-9678-435E-9601-76821454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70D-304F-44CC-868E-CBBCD9E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E1D-4948-4F26-99DF-738040C5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A9A-A945-4470-88E4-A804413F20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formación Asimétr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70440" y="2514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685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DEPARTAMENTO DE INGENIERIA INDUSTRIAL</a:t>
            </a:r>
            <a:r>
              <a:rPr b="0" lang="es-ES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83808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R. Coase (1937).-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Nivel óptimo 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Issue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¿Qué se hace dentro/fuera de la empre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Costos de transacción (y “hold u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Evidencia empírica: Esto cambia a través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aso autos: GM (principio XX) - Toyota (fines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hock T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80880"/>
            <a:ext cx="75438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99"/>
                </a:solidFill>
                <a:uFillTx/>
                <a:latin typeface="Times New Roman"/>
              </a:rPr>
              <a:t>II. Dilemas del Manejo de un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dición de la productividad 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ucial para asociar pagos a 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rabajo en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i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w - no están bien correlacionados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ol incentivos - inducir a agentes a hacer bien 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centivos para “shirking” - Rol moni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Quién monitorea a los moni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oma de decisiones- ¿Cuánto se descentral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ó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ueño = Gerente =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86104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Origen de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sociados fijación P, meeting/delivery S-D, research gusto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: (juntar/transmisión) – dem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 incompleta/asimétrica-desempeño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venios imper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Total= Costo Producción + Costo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sto transacción asociado: Estructura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ifícil medir: Costo trans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- Ej. Caso Intel - paso Monopolio a Duop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Min. C.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 Trade-off Min. C. Trans. y Max. Efic.-S. Púb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Xerox: ¿Pq. prefiere arrendar a vender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91440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I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Corporación Moderna- Disociación Propiedad/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: Agente –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Cómo monitorear a los ger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Cómo proteger intereses accionistas minorita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centivos para los G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rivadas – “Costos de Agenci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paración propiedad/administración (Berle &amp; Means, 193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monitoreo accion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Gerentes hacen lo que qui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erentes enfrentan restricciones (Fama &amp; Jensen, 198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rcado ger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canismos 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Takeo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úblicas – problemas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tivos de ejecu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ist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bajadores – “dueños” de l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troles exter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t de principios básicos para E.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 CODEL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Problema Gerencial de 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ecanismos para controlar problema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diciones para existencia problema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 vs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plícitos en los contr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– sistema incen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ema: ¿Por qué empres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fábrica de alfileres de Adam Sm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mpresas moder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rganización para coord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ivel óptimo integración vert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ópicos centrales en un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ductividad/Pago de fact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-6897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evisión Supuesto B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perf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tod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la mism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 =&gt; Sistema más eficiente para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perfectamente competi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da agente – P que le intere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0 – adquisición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und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F perfecta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ncertidumbre – fut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lgunos agentes tienen + IF =&gt; IF asimét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fenómeno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plic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squemas institu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puede generar falla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ópicos IF asimét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lección adversa (“Característica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iesgo moral (“Accione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blemas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simetría IF en mercado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Selección Adve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Incertidumbre c/r cali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Akerlof (197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rcado autos usados (“cacharro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r qué valor de un auto usado cae tant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mercado autos us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=&gt;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lección adversa – deja en el mercado vehículos de baja 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guros – médicos/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ortancia reputación y standar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iesgo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comportamient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probabilidad de accidentes =&gt; cía seguros paga + ple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 puede establecers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contra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fiscaliz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emplos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guro mé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incen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ode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a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fectos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riesgo moral sobre eficiencia 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o incendio edif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ran depresión – sector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Problemas de A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imetría IF – genera probl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/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estar de una persona – depende de o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971800"/>
            <a:ext cx="2361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352680"/>
            <a:ext cx="1143000" cy="762120"/>
          </a:xfrm>
          <a:prstGeom prst="leftRightArrow">
            <a:avLst>
              <a:gd name="adj1" fmla="val 50000"/>
              <a:gd name="adj2" fmla="val 2985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2959200"/>
            <a:ext cx="2361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y trabaj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 a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pueden Max función objetiv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Función objetivo dueño – a expensas d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 – Ej auto - carre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</a:rPr>
              <a:t>Management de una Empresa .- Visión E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523880"/>
            <a:ext cx="784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Pq.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 empre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A. Smith (XVIII) 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esanos vs. Fáb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Fábrica de alfile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entajas de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bl. de coordinac.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incronización entre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Artesano - Robinson Crus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tiene problemas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83822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Problemas Coordinación: c/activ. prod. debe ser efectuada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Q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ando Tecnologí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de demora - 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uencia cor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º correcto de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 especialidades perti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Issue: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Quién es el coordin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Cooperativa artes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bl.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o actúa como vendedor - cobra fee y asign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609480"/>
            <a:ext cx="68580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anage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ueño - que hace de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a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signa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ctiv.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os desempeño -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mpra input/vend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queda co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Desmembramiento produc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ching Nº firmas = Nº procesos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/proceso - empresa sepa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ransacciones para input inter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3:03:36Z</dcterms:modified>
  <cp:revision>168</cp:revision>
  <dc:subject/>
  <dc:title>Discriminación de Precios &amp; L1SP</dc:title>
</cp:coreProperties>
</file>